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44F-20AC-4815-9483-63E7BDE1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A2A-0EBD-48E9-A6E3-67B1A208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18A-DE5D-4A58-B249-BED3DDCC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710-8EA2-4866-88E8-E916591A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9AB-3B08-4947-9481-9715C66B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D47-1644-44E8-9567-30CD91E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F86-C946-458B-BDE0-17C3548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FB7-10F7-40E3-A238-4FA9EC6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D6CE-BBA5-4364-A2D3-C61AD38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7597-3A97-4FE8-8096-E0B59DC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6F3-6BD9-4E5D-BCDD-A95DCB4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B11-0FB0-48B7-A650-01AC152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681B-95BE-4CEF-8418-792C6EE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FB1-2D56-488E-B2D4-D63DB49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EF8A-ED13-4F32-8509-460A757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395-4EF7-4AF0-B606-A70E1C57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2F6B-8D83-4215-9FBD-67A0DBEB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16A-B5EC-48A6-820F-7F46129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0EF-7148-432C-B02B-82973A7E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338-977E-4F20-9004-CF0D3B9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CF7-3E3E-4CD4-8D16-90A17ED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13C-BA61-4496-BF4C-20CACEC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65D-B525-497B-939E-976AD2C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EEC-6BBF-4638-8FA1-D2DE6F5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975-6FDB-456A-A676-F2957431B8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51F-B55E-4F00-BF71-AF59FA261A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5.3: Big Business Emer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The Rise of Big Busi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rpo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ganization owned by many people but treated by law as though it were a per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to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who own the corporation because they are shareholders.  Each share is called a stock.  Helps minimize risk for owner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st of manufacturing is decreased by producing goods quickly in large quant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.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Monopo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ompany that has complete control over a produ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solidating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  Too much competition = p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pool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companies that agree to keep prices at a certain level; it’s illeg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Picture 10" descr="gd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84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41_Pepsi_20oz"/>
          <p:cNvPicPr/>
          <p:nvPr/>
        </p:nvPicPr>
        <p:blipFill>
          <a:blip r:embed="rId2"/>
          <a:stretch/>
        </p:blipFill>
        <p:spPr>
          <a:xfrm>
            <a:off x="7391520" y="4495680"/>
            <a:ext cx="8017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oca-cola freestyle(r)"/>
          <p:cNvPicPr/>
          <p:nvPr/>
        </p:nvPicPr>
        <p:blipFill>
          <a:blip r:embed="rId3"/>
          <a:stretch/>
        </p:blipFill>
        <p:spPr>
          <a:xfrm>
            <a:off x="4495680" y="4952880"/>
            <a:ext cx="2048040" cy="113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Rccolauslogo.jpg"/>
          <p:cNvPicPr/>
          <p:nvPr/>
        </p:nvPicPr>
        <p:blipFill>
          <a:blip r:embed="rId4"/>
          <a:stretch/>
        </p:blipFill>
        <p:spPr>
          <a:xfrm>
            <a:off x="1523880" y="4419720"/>
            <a:ext cx="2381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2.  Andrew Carnegi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“Man of Steel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.  Management techniq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.  Hired talented work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ffered stoc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mpetition = increased production/lower cos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i.  Better products cheap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.  “Winning”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.  Vertical integr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.   Buy out all of your suppli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.  Control quality and cos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3" descr="Formal portrait of Andrew Carnegie standing and leaning on the back of a leather chair. "/>
          <p:cNvPicPr/>
          <p:nvPr/>
        </p:nvPicPr>
        <p:blipFill>
          <a:blip r:embed="rId1"/>
          <a:stretch/>
        </p:blipFill>
        <p:spPr>
          <a:xfrm>
            <a:off x="5486400" y="2286000"/>
            <a:ext cx="3306600" cy="384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IN00483_"/>
          <p:cNvPicPr/>
          <p:nvPr/>
        </p:nvPicPr>
        <p:blipFill>
          <a:blip r:embed="rId2"/>
          <a:stretch/>
        </p:blipFill>
        <p:spPr>
          <a:xfrm>
            <a:off x="6934320" y="152280"/>
            <a:ext cx="1746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533160"/>
            <a:ext cx="3810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cago, 188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3 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8840" y="4568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bai, 200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,717 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Picture 7" descr="2"/>
          <p:cNvPicPr/>
          <p:nvPr/>
        </p:nvPicPr>
        <p:blipFill>
          <a:blip r:embed="rId1"/>
          <a:stretch/>
        </p:blipFill>
        <p:spPr>
          <a:xfrm>
            <a:off x="1566720" y="1012680"/>
            <a:ext cx="3065760" cy="500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upload.wikimedia.org/wikipedia/en/thumb/2/2f/Burj_Khalifa_building.jpg/180px-Burj_Khalifa_building.jpg"/>
          <p:cNvPicPr/>
          <p:nvPr/>
        </p:nvPicPr>
        <p:blipFill>
          <a:blip r:embed="rId2"/>
          <a:stretch/>
        </p:blipFill>
        <p:spPr>
          <a:xfrm>
            <a:off x="5181480" y="1050840"/>
            <a:ext cx="33354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3.  John D. “Slick” Rockefeller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 Oil Compan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wned 90% of refining busi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eated employees poor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ything goes”/bend the r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ning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rizontal consolid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spcBef>
                <a:spcPts val="400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rging of companies with similar products; oil compani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Picture 5" descr=" "/>
          <p:cNvPicPr/>
          <p:nvPr/>
        </p:nvPicPr>
        <p:blipFill>
          <a:blip r:embed="rId1"/>
          <a:stretch/>
        </p:blipFill>
        <p:spPr>
          <a:xfrm>
            <a:off x="4896000" y="1905120"/>
            <a:ext cx="42480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Consolidating Busines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 Monopo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mpany that has complete control over a produ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vantag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341280" y="169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979560" y="1698480"/>
            <a:ext cx="6500880" cy="360"/>
            <a:chOff x="979560" y="1698480"/>
            <a:chExt cx="6500880" cy="360"/>
          </a:xfrm>
        </p:grpSpPr>
        <p:sp>
          <p:nvSpPr>
            <p:cNvPr id="130" name="Rectangle 7"/>
            <p:cNvSpPr/>
            <p:nvPr/>
          </p:nvSpPr>
          <p:spPr>
            <a:xfrm>
              <a:off x="979560" y="1698480"/>
              <a:ext cx="6500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31" name="Group 8"/>
            <p:cNvGrpSpPr/>
            <p:nvPr/>
          </p:nvGrpSpPr>
          <p:grpSpPr>
            <a:xfrm>
              <a:off x="979560" y="1698480"/>
              <a:ext cx="6500880" cy="360"/>
              <a:chOff x="979560" y="1698480"/>
              <a:chExt cx="6500880" cy="3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979560" y="1698480"/>
                <a:ext cx="650088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979560" y="1698480"/>
                <a:ext cx="650088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34" name="Group 17"/>
          <p:cNvGrpSpPr/>
          <p:nvPr/>
        </p:nvGrpSpPr>
        <p:grpSpPr>
          <a:xfrm>
            <a:off x="2209680" y="1371600"/>
            <a:ext cx="6934320" cy="6433920"/>
            <a:chOff x="2209680" y="1371600"/>
            <a:chExt cx="6934320" cy="6433920"/>
          </a:xfrm>
        </p:grpSpPr>
        <p:sp>
          <p:nvSpPr>
            <p:cNvPr id="135" name="Rectangle 18"/>
            <p:cNvSpPr/>
            <p:nvPr/>
          </p:nvSpPr>
          <p:spPr>
            <a:xfrm>
              <a:off x="2209680" y="137160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2209680" y="1371600"/>
              <a:ext cx="4416840" cy="64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344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7" name="Picture 20" descr="Monopoly board"/>
          <p:cNvPicPr/>
          <p:nvPr/>
        </p:nvPicPr>
        <p:blipFill>
          <a:blip r:embed="rId1"/>
          <a:stretch/>
        </p:blipFill>
        <p:spPr>
          <a:xfrm>
            <a:off x="1981080" y="3648240"/>
            <a:ext cx="3216240" cy="3209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1"/>
          <p:cNvSpPr/>
          <p:nvPr/>
        </p:nvSpPr>
        <p:spPr>
          <a:xfrm>
            <a:off x="3003480" y="2092320"/>
            <a:ext cx="839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9" name="Picture 22" descr="Mr. Monopoly will be offering some new landmarks and  more money."/>
          <p:cNvPicPr/>
          <p:nvPr/>
        </p:nvPicPr>
        <p:blipFill>
          <a:blip r:embed="rId2"/>
          <a:stretch/>
        </p:blipFill>
        <p:spPr>
          <a:xfrm>
            <a:off x="5867280" y="3124080"/>
            <a:ext cx="25146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5.  Selling the Prod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yer and 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dvertising agenc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ictures included not just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owth of department stores – Marshall Fiel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in stores – i.e Woolworth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ars and Montgomery Wards catalo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Picture 5" descr="universalrangelarge"/>
          <p:cNvPicPr/>
          <p:nvPr/>
        </p:nvPicPr>
        <p:blipFill>
          <a:blip r:embed="rId1"/>
          <a:stretch/>
        </p:blipFill>
        <p:spPr>
          <a:xfrm>
            <a:off x="6019920" y="1447920"/>
            <a:ext cx="26478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5638680" y="4648320"/>
            <a:ext cx="3505320" cy="2209680"/>
            <a:chOff x="5638680" y="4648320"/>
            <a:chExt cx="3505320" cy="2209680"/>
          </a:xfrm>
        </p:grpSpPr>
        <p:sp>
          <p:nvSpPr>
            <p:cNvPr id="145" name="Rectangle 7"/>
            <p:cNvSpPr/>
            <p:nvPr/>
          </p:nvSpPr>
          <p:spPr>
            <a:xfrm>
              <a:off x="5638680" y="4648320"/>
              <a:ext cx="3505320" cy="22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46" name="Group 8"/>
            <p:cNvGrpSpPr/>
            <p:nvPr/>
          </p:nvGrpSpPr>
          <p:grpSpPr>
            <a:xfrm>
              <a:off x="5638680" y="4648320"/>
              <a:ext cx="3505320" cy="2209680"/>
              <a:chOff x="5638680" y="4648320"/>
              <a:chExt cx="3505320" cy="2209680"/>
            </a:xfrm>
          </p:grpSpPr>
          <p:sp>
            <p:nvSpPr>
              <p:cNvPr id="147" name="Rectangle 9"/>
              <p:cNvSpPr/>
              <p:nvPr/>
            </p:nvSpPr>
            <p:spPr>
              <a:xfrm>
                <a:off x="5638680" y="4648320"/>
                <a:ext cx="35053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grpSp>
            <p:nvGrpSpPr>
              <p:cNvPr id="148" name="Group 10"/>
              <p:cNvGrpSpPr/>
              <p:nvPr/>
            </p:nvGrpSpPr>
            <p:grpSpPr>
              <a:xfrm>
                <a:off x="5638680" y="4648320"/>
                <a:ext cx="3156120" cy="2209680"/>
                <a:chOff x="5638680" y="4648320"/>
                <a:chExt cx="3156120" cy="2209680"/>
              </a:xfrm>
            </p:grpSpPr>
            <p:sp>
              <p:nvSpPr>
                <p:cNvPr id="149" name="Rectangle 11"/>
                <p:cNvSpPr/>
                <p:nvPr/>
              </p:nvSpPr>
              <p:spPr>
                <a:xfrm>
                  <a:off x="5648400" y="465840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grpSp>
              <p:nvGrpSpPr>
                <p:cNvPr id="150" name="Group 12"/>
                <p:cNvGrpSpPr/>
                <p:nvPr/>
              </p:nvGrpSpPr>
              <p:grpSpPr>
                <a:xfrm>
                  <a:off x="5638680" y="4648320"/>
                  <a:ext cx="3156120" cy="2209680"/>
                  <a:chOff x="5638680" y="4648320"/>
                  <a:chExt cx="3156120" cy="2209680"/>
                </a:xfrm>
              </p:grpSpPr>
              <p:grpSp>
                <p:nvGrpSpPr>
                  <p:cNvPr id="151" name="Group 13"/>
                  <p:cNvGrpSpPr/>
                  <p:nvPr/>
                </p:nvGrpSpPr>
                <p:grpSpPr>
                  <a:xfrm>
                    <a:off x="5648400" y="4658400"/>
                    <a:ext cx="3136320" cy="2189520"/>
                    <a:chOff x="5648400" y="4658400"/>
                    <a:chExt cx="3136320" cy="2189520"/>
                  </a:xfrm>
                </p:grpSpPr>
                <p:sp>
                  <p:nvSpPr>
                    <p:cNvPr id="152" name="Rectangle 14"/>
                    <p:cNvSpPr/>
                    <p:nvPr/>
                  </p:nvSpPr>
                  <p:spPr>
                    <a:xfrm>
                      <a:off x="5648400" y="4658400"/>
                      <a:ext cx="3136320" cy="2189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9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53" name="Rectangle 15"/>
                    <p:cNvSpPr/>
                    <p:nvPr/>
                  </p:nvSpPr>
                  <p:spPr>
                    <a:xfrm>
                      <a:off x="5648400" y="4658400"/>
                      <a:ext cx="3136320" cy="2189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54" name="Rectangle 16"/>
                  <p:cNvSpPr/>
                  <p:nvPr/>
                </p:nvSpPr>
                <p:spPr>
                  <a:xfrm>
                    <a:off x="5638680" y="4648320"/>
                    <a:ext cx="3156120" cy="220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270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pic>
        <p:nvPicPr>
          <p:cNvPr id="155" name="Picture 17" descr="Kodak_ad_1888"/>
          <p:cNvPicPr/>
          <p:nvPr/>
        </p:nvPicPr>
        <p:blipFill>
          <a:blip r:embed="rId2"/>
          <a:stretch/>
        </p:blipFill>
        <p:spPr>
          <a:xfrm>
            <a:off x="6248520" y="4724280"/>
            <a:ext cx="24987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57" name="Picture 3" descr="red_bus_isometric"/>
          <p:cNvPicPr/>
          <p:nvPr/>
        </p:nvPicPr>
        <p:blipFill>
          <a:blip r:embed="rId1"/>
          <a:stretch/>
        </p:blipFill>
        <p:spPr>
          <a:xfrm>
            <a:off x="3276720" y="152280"/>
            <a:ext cx="5715000" cy="38750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-22320" y="1828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5" descr="02yahoo"/>
          <p:cNvPicPr/>
          <p:nvPr/>
        </p:nvPicPr>
        <p:blipFill>
          <a:blip r:embed="rId2"/>
          <a:stretch/>
        </p:blipFill>
        <p:spPr>
          <a:xfrm>
            <a:off x="2286000" y="3535200"/>
            <a:ext cx="6629400" cy="3094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PC Creative"/>
          <p:cNvPicPr/>
          <p:nvPr/>
        </p:nvPicPr>
        <p:blipFill>
          <a:blip r:embed="rId3"/>
          <a:stretch/>
        </p:blipFill>
        <p:spPr>
          <a:xfrm>
            <a:off x="1295280" y="533520"/>
            <a:ext cx="295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0-16T21:50:10Z</dcterms:modified>
  <cp:revision>15</cp:revision>
  <dc:subject/>
  <dc:title>PowerPoint Presentation</dc:title>
</cp:coreProperties>
</file>